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3A8-78C3-4CD1-975C-1F997D73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DEE-C2EF-4200-A457-C5FE14B3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1C7-9C5B-4989-A53D-F163A22B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FC4-8B7B-4929-9B0A-CB734927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861-9AFA-4127-BD21-65D14ED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3DF-2BE8-46C2-BE8D-D1494834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20B-E5BF-45CA-A5A0-82CDCE1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59A-858E-4352-AF97-6519924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B60-6730-48CE-ACAA-515F3FB9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E13-9ED6-45F3-8098-CF21E26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E6C-C008-4BBB-B069-8808539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C24-6A25-45D7-B444-DAF4EE7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9265-DD90-4391-A5D8-0A5F5FBDE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1f497d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1f497d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835280" y="3124080"/>
            <a:ext cx="55450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1f497d"/>
                </a:solidFill>
                <a:latin typeface="Times New Roman"/>
              </a:rPr>
              <a:t>7</a:t>
            </a:r>
            <a:r>
              <a:rPr b="1" lang="sr-CS" sz="2200" spc="-1" strike="noStrike">
                <a:solidFill>
                  <a:srgbClr val="1f497d"/>
                </a:solidFill>
                <a:latin typeface="Times New Roman"/>
              </a:rPr>
              <a:t>. наставна јединица (сед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Вештина комуникације са особама дечјег и адолесцентног у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740040" y="599760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f497d"/>
                </a:solidFill>
                <a:latin typeface="Times New Roman"/>
              </a:rPr>
              <a:t>Проф. др Биљана Вуле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РАЗГОВОР НА ПРИЈЕМУ У КЛИ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55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НАМНЕЗА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Хетероанамне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Ко је особа која даје анамнез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Родите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Старате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Наставник, васпитач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Очевидац нежељеног догађај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2951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ВОЂЕЊЕ АНАМНЕ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Кратки разгов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Информатив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Циљана пит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Садржај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аводи га лека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Не сма бити сугестив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ЕГЛЕД  НА ПРИЈЕМУ У КЛИ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јаснити поступ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атко време тиш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ез комента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ти одлуч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застрашив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ледати у д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зумљив јез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тражити дозво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штовати приват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суство пратио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пријатно за кра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лашити 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оредити са друг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окушавати физички га савлад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ДЕ СЕ ВОДЕ РАЗГОВОРИ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 -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У ТОКУ ХОСПИТАЛИЗ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0318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мештај у једницу интензивне не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мештај у собу на одеље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стаје само или са мај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днос са другом дец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анимација у периоду опорав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ДЕ СЕ ВОДЕ РАЗГОВОРИ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,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ПРЕМА ДЕЦЕ ЗА ПОСЕБНЕ ПРОЦЕДУРЕ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авање интравенске и интрамускуларне 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зорковање крв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ерење артеријског притиска и сатур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пирометр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E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астроско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лтразвучн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ентген дијагнос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ДЕ СЕ ВОДЕ РАЗГОВОРИ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,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ТПУСТ СА КЛИНИ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81584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умачење свих анализа и учиње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ерапијски прот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аветовање о правилној исх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физичка актив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пособност за похађање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договор око контрол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ДЕ СЕ ВОДЕ РАЗГОВОРИ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98900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,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ОНТРОЛНИ  ПРЕГЛЕ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акутне респираторне инфе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епилептични напади и други пароксизмални догађ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акутни ентероко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успорен психомоторни разво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хроничне болести (леукемија, нефротски синдром, срчане мане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индроми и деформит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8000" y="13510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омун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вербалн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неверб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„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Лекар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више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греши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зато шт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недовољн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гледа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нег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зато шт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недовољн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зна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ПОСЕБНЕ КАТЕГОРИЈЕ ПАЦИЈЕНАТА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витално угрожено 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дете на респират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инфаустна ста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деца која живе у иностран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деца са поремећајем у психомоторном развој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ступ детету које мора да се хоспитализује на клиници у дужем перио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ПОСЕБНЕ КАТЕГОРИЈЕ ПАЦИЈЕНАТА 2 Адолесцен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осебно вулнерабилна група пацијен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 граници детета и одрас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мешовита патологија – преклапа се понек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унтовни , својеглави, конзумирају опија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ешко приступа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дбијају помо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клони конверзивном реаго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ПОСЕБНЕ КАТЕГОРИЈЕ ПАЦИЈЕНАТА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родитељи са успореним психомоторним развој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родитељи који не могу да се суоче са болешћу де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родитељи који дају лажне инфо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родитељи који не пристају на предложене процедуре испитивања и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родитељи који не желе да оставе дете у кли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спех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еуспех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муникациј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отреб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з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нсултативним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еглед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сихо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сихијатра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оцијалног радник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а понека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олиције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аравно,на крај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ајвећ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захвалност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з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ав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аш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труд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у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осмеси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безбрижно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етињство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еце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јој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мо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могли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омогнемо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вака комуникација  у ординацији има два см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одеран  лекар данас мора д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„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ча, мисли, слуша и куца у исто време“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600360" y="6083280"/>
            <a:ext cx="464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Talking to Patients in the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21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st Century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Zuger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(20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20640"/>
            <a:ext cx="8578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кључивање детета у разговор  приликом прегл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довољно времена за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стрпљиво сачекати на одгов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поред вербалног употребити и говор т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гледати у дете а не у сат или мобилни телеф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охрабрити га пријатним осмех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знати име детета пре уласка у болесничку соб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увек ословљавати родитеље именом а не са „мама „ или „тата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ечник током узимања анамне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језик опхођења мора бити јасан и разумљив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тручне изразе и медицинске фразе  избега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285920"/>
            <a:ext cx="94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Вешти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муникациј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ре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-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-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таратељ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соб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ј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овел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-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собљ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здравствен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руг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адници 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колности и усл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ијемна амбула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лужба хитне медицинске пом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одељење интензивне не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болесничка 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исуство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ругих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о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Деца различитог узрас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дој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мало 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едшколско 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дете школског у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адолесц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ДЕ СЕ ВОДЕ РАЗГОВОРИ 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На пријему у клинику , болницу -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9:19:45Z</dcterms:created>
  <dc:creator>MarijaR9</dc:creator>
  <dc:description/>
  <dc:language>en-US</dc:language>
  <cp:lastModifiedBy>Slavica</cp:lastModifiedBy>
  <dcterms:modified xsi:type="dcterms:W3CDTF">2017-01-30T06:15:56Z</dcterms:modified>
  <cp:revision>23</cp:revision>
  <dc:subject/>
  <dc:title>VEŠTINA  KOMUNIKACIJE</dc:title>
</cp:coreProperties>
</file>